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126-6567-4344-AC4C-80C6E19B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BB8-2628-4C28-A15C-4E265AD5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1BC-C622-4EA8-BD51-B8C4D5D5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A31-CD64-4C57-8845-CA8BBC18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9A5E-6FD2-41E7-A45F-E556E9E4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EE5B-0D1A-4E70-A85E-F69D7D02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CF7B-73B5-44B5-B87F-C1C9ADE7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2D8D-FA74-4CFB-A734-D4157EC2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3275-80A0-40AB-9272-D35BDF9A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F82B-010A-45D3-B17B-9FE42331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4AB5-8127-420F-BA67-B9947C4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5BE-A7D9-4502-B1EA-FAD717AB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798E-AE2F-4D13-BDE5-09122451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A5B9-F2D3-4B6A-883C-AAE1C8F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7A7D-7A63-453D-9EED-4C475A1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9B1E-A6F8-4AFE-86CF-654807BD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E736-2A2C-420F-9484-A49A1233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7E8-E575-4329-827F-DB54626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534-1238-46EB-AF48-7E49AF1D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1B2-D764-45C6-8880-F3D23CA5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AB5-6167-461F-A3DB-ECA0C294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09C-4725-41F6-B81E-456115C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B18-DC3E-4D40-B999-2E50D32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824-9B3F-476D-804F-B8D2614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BD16-0544-46E7-9F2C-79E2B42747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6FD3-73C6-4159-9F9F-174A698200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17.xml"/><Relationship Id="rId4" Type="http://schemas.openxmlformats.org/officeDocument/2006/relationships/slide" Target="slide2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the leader of the group who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ip spoke bad about Orlick to the girl he lik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tephen Torrance User</cp:lastModifiedBy>
  <dcterms:modified xsi:type="dcterms:W3CDTF">2009-03-09T23:56:33Z</dcterms:modified>
  <cp:revision>26</cp:revision>
  <dc:subject/>
  <dc:title>Are You Smarter  Than a 5th Grader?</dc:title>
</cp:coreProperties>
</file>